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57E0-A234-4F9B-9D18-4D05433B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68F-2C6B-4993-BF72-F9C04C4C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330-049B-40F9-BD25-16641D0C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033-138E-4E6B-83C4-F55B8C83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C77-DAAA-404B-A3F7-A2C2EBE8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A2E-A89F-4A7A-9C29-5A5AC3E3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0D7F-7BAB-447C-BC77-F049CDAC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D498-A6B2-4206-81DC-36035ECA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491C-A28C-4D65-ADA8-12EB8BD0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AAA-E521-44C0-97C3-E864EF0B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65BD-B2BF-40B4-AC19-D15AC919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891-71A9-4971-B81B-4E2DA25A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89BB-1B1B-464A-9041-A5437441C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ICo Desig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CE 3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nneth Be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n Com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ick Lums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U Func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rror Adder/Subtr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ation of both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zes mode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overflow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xor-based shi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es multiple supply vol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s modified comparato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rator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-defined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user to select greater or lesser input to 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 equal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for greater versatility of DSP in datapath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al bran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ro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rator Schema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Metric Minimizatio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rror adder sizing (focus of desi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benefit: 12.5ns to 9.5ns (42% quadratic decrease from ripple carry desi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xor based shi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de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buffers at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ation adder/subtr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652µ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ategy (Con’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bits via PMOS, NMOS singl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bits via transmissi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ric = T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 A * P, where P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T * C * Vdd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gives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α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 * A * C * Vdd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Vdd via Level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benefit: 31.08mW to 23.99mW (2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457200" y="49528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Metric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orst-case propogation delay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67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case: Adding 0x7FFF and 0x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power consumption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3.99m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case: A alternating between 0xAAAA and 0x5555 every cycle, B constant at 0xAA55, measured over 8 total clock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calculated area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1,652µ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case: Addition of all transistor wid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Metric Calculation: (9.67ns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(11,652µm) * (23.99mW)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6139 *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01:25:43Z</dcterms:created>
  <dc:creator>ITC Labs and Classrooms</dc:creator>
  <dc:description/>
  <dc:language>en-US</dc:language>
  <cp:lastModifiedBy>Ben Combs</cp:lastModifiedBy>
  <dcterms:modified xsi:type="dcterms:W3CDTF">2008-04-29T16:18:40Z</dcterms:modified>
  <cp:revision>20</cp:revision>
  <dc:subject/>
  <dc:title>PICo Design Project</dc:title>
</cp:coreProperties>
</file>